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9D13-FA76-4450-9566-DA7133A99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1B11-37DD-4EAF-8747-CB9B2A864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A605-6E3D-4512-BFFB-7A750DAB7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A822-A2C4-4454-B986-E45BFAD71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720D7-F98A-4AF8-9DAD-DF7201F4C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00EAE-93EB-483F-AF8A-6BBA5A3DD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98749-57DD-4625-9C09-755991037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5008B-5DC2-4751-BB05-CC7734691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58288-ECC0-40F5-B751-73D90E9E8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767E9-3315-4D0F-837B-877C95864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FD0CC-E413-4351-B1BB-BAD9CBC0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D5BC-E04E-4F59-976B-21E2F68F9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19860-92AB-47BD-B497-478EC9BD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1D61C-73B6-4634-A8FC-F3B0B562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DD6AC-F9B3-4C18-9EC6-C4C055E20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835C5-596C-44A8-8104-424C73434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4C17A-73E3-4C5E-A33D-3C8E1CDAF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1D9E-B2B8-4CBB-8B23-5AD5F5220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8CD7-0B51-4A30-A3EE-CF826E32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45D7-B1E9-4C09-AE51-00200252F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0056-F51A-4460-AE3E-E07AB604F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A328-9F8E-4AC4-9697-E15730F1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B9D0-5799-4D84-AB94-5A8116D8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A279-5BBD-4A18-8FC2-F1EA202E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7F7A0-9593-49DF-B08E-C1565CC0132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2DC16-A4A2-4871-8708-51D38E1941A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Till There Was No Remedy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(Divided Kingdom – Part 1)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Quarter 6, Lesson 16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ages 61-6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 Kings 6:24 -8:6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9385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276720" y="3581280"/>
            <a:ext cx="1143000" cy="3049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114440" y="2666880"/>
            <a:ext cx="1066680" cy="99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5181480" y="1371600"/>
            <a:ext cx="1219320" cy="1295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3000" y="22860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amaria Besieged By Arameans &amp; Famine Sets 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Siege of Samar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rameans besiege Samari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Plight of the people – cannibalism -6:24-29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Prejudice of the king – blames Elisha and the Lord – 6:30-33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Prophecy of Elisha – 7:1-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Panic of the Arameans – 7:3-1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Plunder by the people – 7:12-16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Passing of the Officer – 7:17-2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Reminiscing About Elish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ehazi and the woman of Shunem tell the king of Israel of Elisha’s dee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he relocated due to Elisha’s warning. 8:1-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he returned after the famine to get her house and land back -8:3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he is restored her belongings when Gehazi explains the situation to the k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920880"/>
            <a:ext cx="9144000" cy="59371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flipH="1">
            <a:off x="3124080" y="3962520"/>
            <a:ext cx="990720" cy="1295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200400" y="3962160"/>
            <a:ext cx="762120" cy="99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05120" y="45720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oman of Shunam Left and Return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3T16:49:56Z</dcterms:created>
  <dc:creator>Terry W. Benton</dc:creator>
  <dc:description/>
  <dc:language>en-US</dc:language>
  <cp:lastModifiedBy>Frank D Vines</cp:lastModifiedBy>
  <dcterms:modified xsi:type="dcterms:W3CDTF">2005-08-24T17:26:26Z</dcterms:modified>
  <cp:revision>2</cp:revision>
  <dc:subject/>
  <dc:title>Till There Was No Remedy (Divided Kingdom – Part 1)</dc:title>
</cp:coreProperties>
</file>